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EF1-5704-4480-B9EA-C54BD99A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2DA-3A44-42AE-97E4-10E7889F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7AE-D1AA-4ED1-A74C-4F9D1394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719-2B23-4390-80EA-FAE319E3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748B-F39C-4313-8C81-BE0320B3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5330-C5E0-4B7F-B983-697B2703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03D-2399-4637-B4E8-7579E4E1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17A-2CB4-4288-B1E8-8CB32E73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EC4C-1ECD-448F-98A6-86E4348A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C2BB-6F5D-4F52-80D1-899FDDA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2815-6433-4521-A15D-CB8B796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0B8-3955-456D-8407-2896F7FF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4353-665A-4BFF-A11B-54FD6E5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9680-1EB5-4AF0-B54E-44961448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426-A6CE-418B-B2BC-54D1ACF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913-A1FD-4375-AA25-7596844E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D538-E316-481F-B3C3-D946D437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E22C4A-3F18-42BD-BF41-17B2D6E9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1C36E-580C-4591-B6A3-A9ECD58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D689C-6148-4E84-BEF2-7F59417E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95471-659E-42F2-9C97-86AAE3F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55CFB-138F-4C10-A09A-628B1B0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E179-E208-4D82-A24E-75AD333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23E9E-9EBA-4BBF-87F7-09E7DDD2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D7F6D-E602-40D6-ADA6-283D093C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0C491-442C-4647-B0AD-17F04C83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1A4A6-6B3E-4664-B6DD-17784BF1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D9396-02FB-48E6-B425-E6AA06D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291AF-EEF3-444E-84A5-7221BAC7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294E0-F085-4B71-B25E-6EE03EF4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59D1-2259-494F-8657-617EDEAA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ABD8B-6401-48B8-8795-11F9AA3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88917-062C-45D3-9895-766172B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0660-1032-4F31-BA42-62969A13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60CA-00B0-43CC-AC50-B0C5115E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98842-85A3-44FD-AEB0-70E16E02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1B78-364E-476A-A461-A4F2FADF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6875-151B-460D-9CEF-352C2B1F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19D2E-9CB4-41AC-ACD6-678905D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F1B8-62B9-4D21-8C49-B5F9801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A0B6-7752-4051-9402-7C985DB1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BBC6-CEEC-4431-AA3D-7C1BDB45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587D6-30D1-4AB4-B376-BEB43B30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D47E-7014-43F4-8079-C2A346A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CD6C-FB04-47E3-B487-ABD16BD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44D-8384-4F6E-A66B-5C74DF3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60E7-8938-4716-BDDF-B55563ED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7C4-086C-4C14-958A-89A0D5B7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FE5-CD9A-4792-BF0D-66D0BA4CCB3A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f3a447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f3a447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26C4-2973-44F6-A226-EFE78835A5D0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E2A8-7F7A-4CB2-898F-EA0DD6FDD893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d7bb"/>
            </a:gs>
            <a:gs pos="100000">
              <a:srgbClr val="eef2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f3a44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f3a44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a5b5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4533-6943-40D4-A87D-43BCE7F35678}" type="slidenum"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458200" cy="21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rebuchet MS"/>
              </a:rPr>
              <a:t>Дискретная случайная величина</a:t>
            </a:r>
            <a:endParaRPr b="0" lang="en-US" sz="44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68360" y="4365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44d26"/>
                </a:solidFill>
                <a:latin typeface="Georgia"/>
              </a:rPr>
              <a:t>Числовые характеристики дискретной случайной величин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математического ожидания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7e0e"/>
                </a:solidFill>
                <a:latin typeface="Georgia"/>
              </a:rPr>
              <a:t>M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(</a:t>
            </a:r>
            <a:r>
              <a:rPr b="1" i="1" lang="en-US" sz="4000" spc="-1" strike="noStrike">
                <a:solidFill>
                  <a:srgbClr val="dd7e0e"/>
                </a:solidFill>
                <a:latin typeface="Georgia"/>
              </a:rPr>
              <a:t>X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) = х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1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1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 + х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+…+ х</a:t>
            </a:r>
            <a:r>
              <a:rPr b="1" i="1" lang="en-US" sz="4000" spc="-1" strike="noStrike" baseline="-25000">
                <a:solidFill>
                  <a:srgbClr val="dd7e0e"/>
                </a:solidFill>
                <a:latin typeface="Georgia"/>
              </a:rPr>
              <a:t>n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en-US" sz="4000" spc="-1" strike="noStrike" baseline="-25000">
                <a:solidFill>
                  <a:srgbClr val="dd7e0e"/>
                </a:solidFill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где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С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 ± 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4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·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·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M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  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где Х и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 - независимые случайные       величины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Дисперс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8000" y="1125000"/>
            <a:ext cx="9036000" cy="544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7e0e"/>
                </a:solidFill>
                <a:latin typeface="Georgia"/>
              </a:rPr>
              <a:t>Дисперсией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случайной величины Х</a:t>
            </a:r>
            <a:r>
              <a:rPr b="0" i="1" lang="ru-RU" sz="2400" spc="-1" strike="noStrike">
                <a:solidFill>
                  <a:srgbClr val="333a1d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называют математическое ожидание квадрата ее отклонений от среднего значения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3540a"/>
                </a:solidFill>
                <a:uFillTx/>
                <a:latin typeface="Georgia"/>
              </a:rPr>
              <a:t>Для вычисл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                      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D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) = 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M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28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) - 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M</a:t>
            </a:r>
            <a:r>
              <a:rPr b="1" i="1" lang="ru-RU" sz="28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28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),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где  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M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(</a:t>
            </a:r>
            <a:r>
              <a:rPr b="1" i="1" lang="en-US" sz="2800" spc="-1" strike="noStrike" u="sng">
                <a:solidFill>
                  <a:srgbClr val="333a1d"/>
                </a:solidFill>
                <a:uFillTx/>
                <a:latin typeface="Georgia"/>
              </a:rPr>
              <a:t>X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) =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1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 + х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ru-RU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+…+ х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r>
              <a:rPr b="1" i="1" lang="ru-RU" sz="2800" spc="-1" strike="noStrike" u="sng" baseline="30000">
                <a:solidFill>
                  <a:srgbClr val="333a1d"/>
                </a:solidFill>
                <a:uFillTx/>
                <a:latin typeface="Georgia"/>
              </a:rPr>
              <a:t>2</a:t>
            </a:r>
            <a:r>
              <a:rPr b="1" i="1" lang="ru-RU" sz="2800" spc="-1" strike="noStrike" u="sng">
                <a:solidFill>
                  <a:srgbClr val="333a1d"/>
                </a:solidFill>
                <a:uFillTx/>
                <a:latin typeface="Georgia"/>
              </a:rPr>
              <a:t>·р</a:t>
            </a:r>
            <a:r>
              <a:rPr b="1" i="1" lang="en-US" sz="2800" spc="-1" strike="noStrike" u="sng" baseline="-25000">
                <a:solidFill>
                  <a:srgbClr val="333a1d"/>
                </a:solidFill>
                <a:uFillTx/>
                <a:latin typeface="Georgi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Дисперсия характеризует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степень отклонения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 значений случайной величины от ее среднего значения. На практике дисперсия служит для </a:t>
            </a:r>
            <a:r>
              <a:rPr b="1" lang="ru-RU" sz="2400" spc="-1" strike="noStrike">
                <a:solidFill>
                  <a:srgbClr val="333a1d"/>
                </a:solidFill>
                <a:latin typeface="Georgia"/>
              </a:rPr>
              <a:t>оценки меры риска</a:t>
            </a:r>
            <a:r>
              <a:rPr b="0" lang="ru-RU" sz="2400" spc="-1" strike="noStrike">
                <a:solidFill>
                  <a:srgbClr val="333a1d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3540a"/>
                </a:solidFill>
                <a:latin typeface="Georgia"/>
              </a:rPr>
              <a:t>(Дисперсия всегда положительное число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"/>
              <p:cNvSpPr txBox="1"/>
              <p:nvPr/>
            </p:nvSpPr>
            <p:spPr>
              <a:xfrm>
                <a:off x="3768840" y="2060640"/>
                <a:ext cx="3695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Свойства дисперсии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D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) = 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M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40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) - 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M</a:t>
            </a:r>
            <a:r>
              <a:rPr b="1" i="1" lang="ru-RU" sz="40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40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)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3540a"/>
                </a:solidFill>
                <a:latin typeface="Georgia"/>
              </a:rPr>
              <a:t>где  </a:t>
            </a:r>
            <a:r>
              <a:rPr b="1" i="1" lang="en-US" sz="3200" spc="-1" strike="noStrike">
                <a:solidFill>
                  <a:srgbClr val="93540a"/>
                </a:solidFill>
                <a:latin typeface="Georgia"/>
              </a:rPr>
              <a:t>M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93540a"/>
                </a:solidFill>
                <a:latin typeface="Georgia"/>
              </a:rPr>
              <a:t>X</a:t>
            </a:r>
            <a:r>
              <a:rPr b="1" i="1" lang="ru-RU" sz="32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) = х</a:t>
            </a:r>
            <a:r>
              <a:rPr b="1" i="1" lang="ru-RU" sz="3200" spc="-1" strike="noStrike" baseline="-25000">
                <a:solidFill>
                  <a:srgbClr val="93540a"/>
                </a:solidFill>
                <a:latin typeface="Georgia"/>
              </a:rPr>
              <a:t>1</a:t>
            </a:r>
            <a:r>
              <a:rPr b="1" i="1" lang="ru-RU" sz="32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·р</a:t>
            </a:r>
            <a:r>
              <a:rPr b="1" i="1" lang="ru-RU" sz="3200" spc="-1" strike="noStrike" baseline="-25000">
                <a:solidFill>
                  <a:srgbClr val="93540a"/>
                </a:solidFill>
                <a:latin typeface="Georgia"/>
              </a:rPr>
              <a:t>1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 + х</a:t>
            </a:r>
            <a:r>
              <a:rPr b="1" i="1" lang="ru-RU" sz="3200" spc="-1" strike="noStrike" baseline="-25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·р</a:t>
            </a:r>
            <a:r>
              <a:rPr b="1" i="1" lang="ru-RU" sz="3200" spc="-1" strike="noStrike" baseline="-25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+…+ х</a:t>
            </a:r>
            <a:r>
              <a:rPr b="1" i="1" lang="en-US" sz="3200" spc="-1" strike="noStrike" baseline="-25000">
                <a:solidFill>
                  <a:srgbClr val="93540a"/>
                </a:solidFill>
                <a:latin typeface="Georgia"/>
              </a:rPr>
              <a:t>n</a:t>
            </a:r>
            <a:r>
              <a:rPr b="1" i="1" lang="ru-RU" sz="32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1" i="1" lang="ru-RU" sz="3200" spc="-1" strike="noStrike">
                <a:solidFill>
                  <a:srgbClr val="93540a"/>
                </a:solidFill>
                <a:latin typeface="Georgia"/>
              </a:rPr>
              <a:t>·р</a:t>
            </a:r>
            <a:r>
              <a:rPr b="1" i="1" lang="en-US" sz="3200" spc="-1" strike="noStrike" baseline="-25000">
                <a:solidFill>
                  <a:srgbClr val="93540a"/>
                </a:solidFill>
                <a:latin typeface="Georgi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1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0, где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onst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2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C</a:t>
            </a:r>
            <a:r>
              <a:rPr b="0" lang="en-US" sz="3600" spc="-1" strike="noStrike">
                <a:solidFill>
                  <a:srgbClr val="333a1d"/>
                </a:solidFill>
                <a:latin typeface="Georgia"/>
              </a:rPr>
              <a:t>ּ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d7e0e"/>
                </a:solidFill>
                <a:latin typeface="Georgia"/>
              </a:rPr>
              <a:t>3).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 ±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=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X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 +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D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(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), если </a:t>
            </a:r>
            <a:r>
              <a:rPr b="0" i="1" lang="ru-RU" sz="3600" spc="-1" strike="noStrike">
                <a:solidFill>
                  <a:srgbClr val="333a1d"/>
                </a:solidFill>
                <a:latin typeface="Georgia"/>
              </a:rPr>
              <a:t>Х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, </a:t>
            </a:r>
            <a:r>
              <a:rPr b="0" i="1" lang="en-US" sz="3600" spc="-1" strike="noStrike">
                <a:solidFill>
                  <a:srgbClr val="333a1d"/>
                </a:solidFill>
                <a:latin typeface="Georgia"/>
              </a:rPr>
              <a:t>Y</a:t>
            </a:r>
            <a:r>
              <a:rPr b="0" lang="ru-RU" sz="3600" spc="-1" strike="noStrike">
                <a:solidFill>
                  <a:srgbClr val="333a1d"/>
                </a:solidFill>
                <a:latin typeface="Georgia"/>
              </a:rPr>
              <a:t> – независимые случайные величины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Среднеквадратическое отклоне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Дисперсия имеет размерность квадрата случайной величины: если ДСВ имеет размерность метры, то дисперсия измеряется в м</a:t>
            </a:r>
            <a:r>
              <a:rPr b="0" i="1" lang="ru-RU" sz="2800" spc="-1" strike="noStrike" baseline="30000">
                <a:solidFill>
                  <a:srgbClr val="93540a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. Для того, чтобы оценка рассеяния значений случайной величины имела размерность самой величины, вычисляют среднеквадратичное отклон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Положительное значение квадратного корня из дисперсии называют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среднеквадратическим отклонением</a:t>
            </a:r>
            <a:r>
              <a:rPr b="0" lang="ru-RU" sz="2800" spc="-1" strike="noStrike">
                <a:solidFill>
                  <a:srgbClr val="333a1d"/>
                </a:solidFill>
                <a:latin typeface="Georgia"/>
              </a:rPr>
              <a:t> (или стандартным отклонением)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3132000" y="6165720"/>
                <a:ext cx="21607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Функция распределения ДСВ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354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31512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3540a"/>
                </a:solidFill>
                <a:latin typeface="Trebuchet MS"/>
              </a:rPr>
              <a:t>График функции распределения ДСВ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264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d26"/>
                </a:solidFill>
                <a:latin typeface="Trebuchet MS"/>
              </a:rPr>
              <a:t>Дискретные двумерные случайные величины</a:t>
            </a:r>
            <a:endParaRPr b="0" lang="en-US" sz="36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1697040"/>
            <a:ext cx="8928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вумерной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называют случайную величину (Х,Y), возможные значения которой есть пары чисел (х,у). Каждую из величин Х и Y называют составляющей (компонентой). Составляющие Х и Y, рассматриваемые одновременно образуют систему двух случайных величи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44d26"/>
                </a:solidFill>
                <a:latin typeface="Trebuchet MS"/>
              </a:rPr>
              <a:t>Закон распределения дискретной двумерной случайной величины</a:t>
            </a:r>
            <a:endParaRPr b="0" lang="en-US" sz="34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900000" y="1768320"/>
            <a:ext cx="7775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СЛУЧАЙНАЯ   ВЕЛИЧИ</a:t>
            </a:r>
            <a:r>
              <a:rPr b="0" lang="ru-RU" sz="4000" spc="-1" strike="noStrike">
                <a:solidFill>
                  <a:srgbClr val="444d26"/>
                </a:solidFill>
                <a:latin typeface="Trebuchet MS"/>
              </a:rPr>
              <a:t>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196640"/>
            <a:ext cx="8929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еличину, которая в результате опыта принимает только одно, зависящее от случая, числовое значение, назовем </a:t>
            </a:r>
            <a:r>
              <a:rPr b="1" lang="ru-RU" sz="2800" spc="-1" strike="noStrike">
                <a:solidFill>
                  <a:srgbClr val="93540a"/>
                </a:solidFill>
                <a:latin typeface="Georgia"/>
              </a:rPr>
              <a:t>случайной величин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3540a"/>
                </a:solidFill>
                <a:latin typeface="Georgia"/>
              </a:rPr>
              <a:t>ПРИМЕРЫ</a:t>
            </a: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дения герба при подбрасывании монет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выпавших гербов при подбрасывании двух монет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Количество очков, выпадающих при подбрасывании игральной к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Число родившихся мальчиков (или девочек) среди ста новорожденны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Расстояние, которое пролетит снаряд при выстреле из оруд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Ошибка измерителя высоты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a1d"/>
                </a:solidFill>
                <a:latin typeface="Georgia"/>
              </a:rPr>
              <a:t>Температура воздуха на следующий день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395280" y="520560"/>
            <a:ext cx="8461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Дискретная случайная величи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8000" y="1413000"/>
            <a:ext cx="8928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Случайная величина называется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искретной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, если в результате опыта она принимает числовые значения, которые можно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перечислить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или поставить им  в соответствие элементы </a:t>
            </a:r>
            <a:r>
              <a:rPr b="0" lang="ru-RU" sz="2400" spc="-1" strike="noStrike" u="sng">
                <a:solidFill>
                  <a:srgbClr val="93540a"/>
                </a:solidFill>
                <a:uFillTx/>
                <a:latin typeface="Georgia"/>
              </a:rPr>
              <a:t>счётного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 множе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аким образом, дискретная случайная величина может быть как конечной, так и бесконечно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описания дискретной случайной величины (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ДС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) просто перечислить её значения недостаточно. Необходимо  для каждого значения найти соответствующую вероятность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3540a"/>
                </a:solidFill>
                <a:latin typeface="Georgia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число посетителей поликлиники  в течение д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92280"/>
            <a:ext cx="8856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44d26"/>
                </a:solidFill>
                <a:latin typeface="Trebuchet MS"/>
              </a:rPr>
              <a:t>Непрерывная случайная величина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8000" y="1413000"/>
            <a:ext cx="89280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Случайная величина называется </a:t>
            </a:r>
            <a:r>
              <a:rPr b="1" lang="ru-RU" sz="2400" spc="-1" strike="noStrike">
                <a:solidFill>
                  <a:srgbClr val="93540a"/>
                </a:solidFill>
                <a:latin typeface="Georgia"/>
              </a:rPr>
              <a:t>непрерывной</a:t>
            </a:r>
            <a:r>
              <a:rPr b="0" lang="ru-RU" sz="2400" spc="-1" strike="noStrike">
                <a:solidFill>
                  <a:srgbClr val="93540a"/>
                </a:solidFill>
                <a:latin typeface="Georgia"/>
              </a:rPr>
              <a:t>, если в результате опыта она принимает числовые значения из некоторого промежутк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3540a"/>
                </a:solidFill>
                <a:latin typeface="Georgia"/>
              </a:rPr>
              <a:t>Пример: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сса наугад выбранной таблетки некоторого препарат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3540a"/>
                </a:solidFill>
                <a:latin typeface="Trebuchet MS"/>
              </a:rPr>
              <a:t>Закон распределения ДСВ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627280" y="2781360"/>
          <a:ext cx="3168720" cy="1079280"/>
        </p:xfrm>
        <a:graphic>
          <a:graphicData uri="http://schemas.openxmlformats.org/drawingml/2006/table">
            <a:tbl>
              <a:tblPr/>
              <a:tblGrid>
                <a:gridCol w="528840"/>
                <a:gridCol w="528480"/>
                <a:gridCol w="527040"/>
                <a:gridCol w="528480"/>
                <a:gridCol w="527040"/>
                <a:gridCol w="5288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i="1" lang="ru-RU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c891"/>
                    </a:solidFill>
                  </a:tcPr>
                </a:tc>
              </a:tr>
            </a:tbl>
          </a:graphicData>
        </a:graphic>
      </p:graphicFrame>
      <p:sp>
        <p:nvSpPr>
          <p:cNvPr id="240" name="Прямоугольник 4"/>
          <p:cNvSpPr/>
          <p:nvPr/>
        </p:nvSpPr>
        <p:spPr>
          <a:xfrm>
            <a:off x="250920" y="1557360"/>
            <a:ext cx="878508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оответствие между возможными значениями случайной величины и ее вероятностями называют </a:t>
            </a:r>
            <a:r>
              <a:rPr b="1" lang="ru-RU" sz="2400" spc="-1" strike="noStrike">
                <a:solidFill>
                  <a:srgbClr val="93540a"/>
                </a:solidFill>
                <a:latin typeface="Times New Roman"/>
              </a:rPr>
              <a:t>законом распределения </a:t>
            </a:r>
            <a:r>
              <a:rPr b="0" lang="ru-RU" sz="2400" spc="-1" strike="noStrike">
                <a:solidFill>
                  <a:srgbClr val="333a1d"/>
                </a:solidFill>
                <a:latin typeface="Times New Roman"/>
              </a:rPr>
              <a:t>случайной величины и записывают в виде таблиц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в верхней строчке написаны значения случайной величины, а в нижней – под кажды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ероятност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Заметим, что событ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,…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уют полную систему событий, поэтому сумма вероятностей в нижней строке всегда равна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8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0" y="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ногоугольник распределения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8000" y="1413000"/>
            <a:ext cx="89280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Графическим изображением закона распределения ДСВ является 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ногоугольник распределения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множество точек с координатам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; р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Georgia"/>
              </a:rPr>
              <a:t>п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…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последовательно соединенных отрезк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a5b59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0" y="390600"/>
            <a:ext cx="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6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313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Числовые характеристики ДСВ: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10920" y="1916280"/>
            <a:ext cx="7561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Математическое ожида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Дисперси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a1d"/>
                </a:solidFill>
                <a:latin typeface="Georgia"/>
              </a:rPr>
              <a:t>Среднеквадратическое отклонение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540a"/>
                </a:solidFill>
                <a:latin typeface="Trebuchet MS"/>
              </a:rPr>
              <a:t>Математическое ожидание</a:t>
            </a:r>
            <a:endParaRPr b="0" lang="en-US" sz="4000" spc="-1" strike="noStrike">
              <a:solidFill>
                <a:srgbClr val="444d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9280" y="1484280"/>
            <a:ext cx="87854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Математическим ожиданием 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(</a:t>
            </a:r>
            <a:r>
              <a:rPr b="1" lang="en-US" sz="2800" spc="-1" strike="noStrike">
                <a:solidFill>
                  <a:srgbClr val="dd7e0e"/>
                </a:solidFill>
                <a:latin typeface="Georgia"/>
              </a:rPr>
              <a:t>X</a:t>
            </a:r>
            <a:r>
              <a:rPr b="1" lang="ru-RU" sz="2800" spc="-1" strike="noStrike">
                <a:solidFill>
                  <a:srgbClr val="dd7e0e"/>
                </a:solidFill>
                <a:latin typeface="Georgia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зывают сумму произведений всех возможных значений случайной величины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 соответствующие вероятности (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):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d7e0e"/>
                </a:solidFill>
                <a:latin typeface="Georgia"/>
              </a:rPr>
              <a:t>M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(</a:t>
            </a:r>
            <a:r>
              <a:rPr b="1" i="1" lang="en-US" sz="4000" spc="-1" strike="noStrike">
                <a:solidFill>
                  <a:srgbClr val="dd7e0e"/>
                </a:solidFill>
                <a:latin typeface="Georgia"/>
              </a:rPr>
              <a:t>X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) = х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1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1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 + х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ru-RU" sz="4000" spc="-1" strike="noStrike" baseline="-25000">
                <a:solidFill>
                  <a:srgbClr val="dd7e0e"/>
                </a:solidFill>
                <a:latin typeface="Georgia"/>
              </a:rPr>
              <a:t>2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+…+ х</a:t>
            </a:r>
            <a:r>
              <a:rPr b="1" i="1" lang="en-US" sz="4000" spc="-1" strike="noStrike" baseline="-25000">
                <a:solidFill>
                  <a:srgbClr val="dd7e0e"/>
                </a:solidFill>
                <a:latin typeface="Georgia"/>
              </a:rPr>
              <a:t>n</a:t>
            </a:r>
            <a:r>
              <a:rPr b="1" i="1" lang="ru-RU" sz="4000" spc="-1" strike="noStrike">
                <a:solidFill>
                  <a:srgbClr val="dd7e0e"/>
                </a:solidFill>
                <a:latin typeface="Georgia"/>
              </a:rPr>
              <a:t>·р</a:t>
            </a:r>
            <a:r>
              <a:rPr b="1" i="1" lang="en-US" sz="4000" spc="-1" strike="noStrike" baseline="-25000">
                <a:solidFill>
                  <a:srgbClr val="dd7e0e"/>
                </a:solidFill>
                <a:latin typeface="Georgi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Математическое ожидание – это число, которое указывает, какое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средне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93540a"/>
                </a:solidFill>
                <a:latin typeface="Georgia"/>
              </a:rPr>
              <a:t>значение</a:t>
            </a:r>
            <a:r>
              <a:rPr b="0" i="1" lang="ru-RU" sz="2800" spc="-1" strike="noStrike">
                <a:solidFill>
                  <a:srgbClr val="93540a"/>
                </a:solidFill>
                <a:latin typeface="Georgia"/>
              </a:rPr>
              <a:t> случайной величины следует ожидать в результате проведения опыта или испы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pa</dc:creator>
  <dc:description/>
  <dc:language>en-US</dc:language>
  <cp:lastModifiedBy>Татьяна</cp:lastModifiedBy>
  <dcterms:modified xsi:type="dcterms:W3CDTF">2024-10-22T13:37:06Z</dcterms:modified>
  <cp:revision>133</cp:revision>
  <dc:subject/>
  <dc:title>PowerPoint Presentation</dc:title>
</cp:coreProperties>
</file>