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DDE-B96B-4C1E-AD5D-53500E92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594-DF45-48AE-8C84-52674C82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C17-3E62-4FB2-9837-A2D94B6B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D39-B663-499A-B00E-8C3CB4E5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E4C-4414-4E60-98E6-66911006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90B-4F30-4DB4-A7E8-C4B361DB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F37-28A6-4231-9EAF-C27E6A79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94D-2799-442D-8788-A3F0B9C5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0DF-64A6-4FB3-AF28-55A0F961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A47-39CC-4411-B6BB-0F7B6063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E3C-9996-4D3D-954B-B4AA5C0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16A-3984-41B4-9EB6-05193406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ACC2-8B50-486A-9A4F-0A46638FDF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67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5869"/>
                </a:solidFill>
                <a:latin typeface="Calibri Light"/>
              </a:rPr>
              <a:t>Основные теоремы теории вероятност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380880" y="403848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Замечательно, что наука, которая начала с рассмотрения азартных игр, обещает   стать  наиболее важным объектом человеческого знания. Ведь большей частью жизненные вопросы являются на самом деле задачами из теории вероятностей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. Лапла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обыт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результат испытан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урны наудачу берут один ш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Извлеч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шара из урны есть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испытание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оявл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шара определенного цвета –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событ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8560" y="838080"/>
            <a:ext cx="788688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Два события, которые в данных условиях могут происходить одновременно, называются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совместными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,</a:t>
            </a:r>
            <a:r>
              <a:rPr b="1" lang="ru-RU" sz="2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а те, которые не могут происходить одновременно, -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есовместными.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Достоверное событие </a:t>
            </a:r>
            <a:r>
              <a:rPr b="0" lang="ru-RU" sz="2600" spc="-1" strike="noStrike">
                <a:solidFill>
                  <a:srgbClr val="262626"/>
                </a:solidFill>
                <a:latin typeface="Calibri"/>
              </a:rPr>
              <a:t>Р(А)=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Невозможное событие </a:t>
            </a:r>
            <a:r>
              <a:rPr b="0" lang="ru-RU" sz="2600" spc="-1" strike="noStrike">
                <a:solidFill>
                  <a:srgbClr val="262626"/>
                </a:solidFill>
                <a:latin typeface="Calibri"/>
              </a:rPr>
              <a:t>Р(А)=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Противоположное событи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(A)+P(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=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бытия являются </a:t>
            </a: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независимым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если вероятность наступления любого из них не зависит от появления остальных событий рассматриваемого множества событий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 Light"/>
              </a:rPr>
              <a:t>Зависимые и независимые событ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изведение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ух событий А и В называют событие АВ, состоящее в совместном появлении этих событий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ь события A, вычисленная при условии, что событие B произошло, называется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словной вероятность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бытия A и обозначается P (A| B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ь совместного появления двух событий равна произведению вероятности одного из них на условную вероятность другого, вычисленную в предположении, что первое событие уже наступи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) = P(A) ⋅ 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ь произведения двух независимых событий равна произведению вероятностей этих собы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) = P(A) ⋅ P(B)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9760" y="151920"/>
            <a:ext cx="788652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 Light"/>
              </a:rPr>
              <a:t>Совместные и несовместные событ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0920" y="1143000"/>
            <a:ext cx="78865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Суммой событий</a:t>
            </a: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и В называется событие С=А+В, состоящее в наступлении, по крайней мере, одного из событий А или В, т. е. в наступлении события А, или события В, или обоих этих событий вместе, если они совмест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роятность суммы двух несовместных событий равна сумме вероятностей этих событий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P (A + B) = P( A) + P (B) 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роятность суммы двух совместных событий равна сумме вероятностей этих двух событий без вероятности их совместного появлени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A + B) = P(A) + P(B) − P(AB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Татьяна</cp:lastModifiedBy>
  <dcterms:modified xsi:type="dcterms:W3CDTF">2024-10-21T13:51:14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