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5A8-2B62-41A4-97F8-47D47975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E39-7604-446D-A5D0-301016EE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C0C-3655-43BC-B42F-923914B4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303-A0E7-4AA1-96DB-935EA26A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BEB-61AD-4E5F-8382-7C28BD14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AB7-B4D2-4224-B271-E347683F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24C-6610-42CB-A643-487981B6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814-3CD1-4652-B2B1-1E9A5A78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2A1-7227-4A94-ACF6-F0337A27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36B-740A-4810-988E-ADD8965E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5C9-9AFF-4AE2-9649-AFE3AFB7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64E-190F-4813-BD96-3B42229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CBD6-541A-400A-90F9-ED3B3931D8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ff"/>
                </a:solidFill>
                <a:latin typeface="Calibri Light"/>
              </a:rPr>
              <a:t>Формула полной вероятности. Формула Бернулли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9760" y="151920"/>
            <a:ext cx="788652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 Light"/>
              </a:rPr>
              <a:t>Формула полной вероятност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0920" y="1143000"/>
            <a:ext cx="78865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усть событие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ожет произойти вместе с одним из независимых событий 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ru-RU" sz="3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гипотезы).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значим через 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событие - «событие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произошло вместе с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». Тогда справедлива форму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10"/>
              <p:cNvSpPr txBox="1"/>
              <p:nvPr/>
            </p:nvSpPr>
            <p:spPr>
              <a:xfrm>
                <a:off x="533520" y="4114800"/>
                <a:ext cx="8076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9760" y="151920"/>
            <a:ext cx="788652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 Light"/>
              </a:rPr>
              <a:t>Формула Байес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0920" y="1143000"/>
            <a:ext cx="78865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усть событие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ожет произойти вместе с одним из независимых событий 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ru-RU" sz="3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гипотезы).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значим через 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событие - «событие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произошло вместе с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»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событи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же произошло то вероятность событий может быть переоценена по формул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йе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формуле вероятности гипотез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10"/>
              <p:cNvSpPr txBox="1"/>
              <p:nvPr/>
            </p:nvSpPr>
            <p:spPr>
              <a:xfrm>
                <a:off x="1981080" y="5029200"/>
                <a:ext cx="56563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9760" y="151920"/>
            <a:ext cx="788652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 Light"/>
              </a:rPr>
              <a:t>Формула Бернулл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0920" y="1143000"/>
            <a:ext cx="78865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ем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Бернулли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k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вероятность наступления ровно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«успехов» в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зависимых повторениях одного и того же испытани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(k)= С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600" spc="-1" strike="noStrike" baseline="50000">
                <a:solidFill>
                  <a:srgbClr val="000000"/>
                </a:solidFill>
                <a:latin typeface="Calibri"/>
              </a:rPr>
              <a:t>k</a:t>
            </a:r>
            <a:r>
              <a:rPr b="1" i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1" i="1" lang="en-US" sz="3600" spc="-1" strike="noStrike" baseline="50000">
                <a:solidFill>
                  <a:srgbClr val="000000"/>
                </a:solidFill>
                <a:latin typeface="Calibri"/>
              </a:rPr>
              <a:t>k</a:t>
            </a:r>
            <a:r>
              <a:rPr b="1" i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q</a:t>
            </a:r>
            <a:r>
              <a:rPr b="1" i="1" lang="en-US" sz="3600" spc="-1" strike="noStrike" baseline="50000">
                <a:solidFill>
                  <a:srgbClr val="000000"/>
                </a:solidFill>
                <a:latin typeface="Calibri"/>
              </a:rPr>
              <a:t>n-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вероятность «успеха», 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q=1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вероятность «неудачи» в отдельном испыт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Татьяна</cp:lastModifiedBy>
  <dcterms:modified xsi:type="dcterms:W3CDTF">2024-10-22T13:49:22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